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6B3-FA51-4EFD-9B0F-26FF6FBB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1F8-CEB6-4853-907A-6BB5D462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FB6-FAE5-467D-BD61-E102BEA4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FBA-600C-4CFF-8CCE-F1394117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9C4-8BA7-4BCC-A51D-D03BE714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63F-5AC2-4A1A-AC08-43022EC1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B1D-3583-4C8F-BF75-F58B592B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90A-5AF2-4EB4-A5C8-8879E539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956-66D6-4D77-85B7-0FF64577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E9D-16D0-4283-8F11-2F7D6376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089-440F-4059-875C-7B439D3C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9C4-FE26-4E38-9509-0FFB45F4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33EE-5AA9-4213-BFD8-98537AAC1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and Automation Tool for STT-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urag Nig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E-65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2286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 in Progress 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52388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8Kb memory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-power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s Break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f Cell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Bit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Sense amp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Timing block, Write D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4x4 Memory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ed skill script to Generate the schem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the complete memory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T-RAM bit cell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agnetic Tunnel Junction (MT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access tran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43000" y="2666880"/>
            <a:ext cx="4667400" cy="1391760"/>
            <a:chOff x="1143000" y="2666880"/>
            <a:chExt cx="4667400" cy="1391760"/>
          </a:xfrm>
        </p:grpSpPr>
        <p:grpSp>
          <p:nvGrpSpPr>
            <p:cNvPr id="48" name=""/>
            <p:cNvGrpSpPr/>
            <p:nvPr/>
          </p:nvGrpSpPr>
          <p:grpSpPr>
            <a:xfrm>
              <a:off x="1143000" y="2666880"/>
              <a:ext cx="2196720" cy="1391760"/>
              <a:chOff x="1143000" y="2666880"/>
              <a:chExt cx="2196720" cy="1391760"/>
            </a:xfrm>
          </p:grpSpPr>
          <p:sp>
            <p:nvSpPr>
              <p:cNvPr id="49" name=""/>
              <p:cNvSpPr/>
              <p:nvPr/>
            </p:nvSpPr>
            <p:spPr>
              <a:xfrm>
                <a:off x="1143000" y="2666880"/>
                <a:ext cx="2196720" cy="541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143000" y="3207960"/>
                <a:ext cx="2196720" cy="3092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43000" y="3517200"/>
                <a:ext cx="2196720" cy="54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598760" y="296064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98760" y="367488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598760" y="393840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14880" y="3254400"/>
              <a:ext cx="22302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ide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28920" y="3644640"/>
              <a:ext cx="24735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e Ferro magnetic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93960" y="3547800"/>
              <a:ext cx="907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43000" y="3716280"/>
              <a:ext cx="771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36840" y="2819160"/>
              <a:ext cx="24735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d Ferro magnetic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20880" y="41911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1: Structure of MT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3048120"/>
            <a:ext cx="35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T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-Cell Desig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3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ing CDF parameter to create Behavioral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6320" y="1828800"/>
            <a:ext cx="8316720" cy="4254480"/>
            <a:chOff x="76320" y="1828800"/>
            <a:chExt cx="8316720" cy="4254480"/>
          </a:xfrm>
        </p:grpSpPr>
        <p:graphicFrame>
          <p:nvGraphicFramePr>
            <p:cNvPr id="65" name=""/>
            <p:cNvGraphicFramePr/>
            <p:nvPr/>
          </p:nvGraphicFramePr>
          <p:xfrm>
            <a:off x="76320" y="1981080"/>
            <a:ext cx="4495680" cy="266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1981080"/>
                      <a:ext cx="4495680" cy="266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152280" y="3505320"/>
              <a:ext cx="12956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85800" y="3962520"/>
              <a:ext cx="152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280" y="541008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ponentName = i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5791320" y="1828800"/>
            <a:ext cx="2601720" cy="358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1320" y="1828800"/>
                      <a:ext cx="260172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5715000" y="3581280"/>
              <a:ext cx="19810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172200" y="4038120"/>
              <a:ext cx="3808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571500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 = f(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00600" y="320040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6172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ized bit-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09480" y="1447920"/>
          <a:ext cx="25401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25401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04920" y="5791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33920" y="1523880"/>
            <a:ext cx="4647960" cy="4727160"/>
            <a:chOff x="3733920" y="1523880"/>
            <a:chExt cx="4647960" cy="4727160"/>
          </a:xfrm>
        </p:grpSpPr>
        <p:graphicFrame>
          <p:nvGraphicFramePr>
            <p:cNvPr id="81" name=""/>
            <p:cNvGraphicFramePr/>
            <p:nvPr/>
          </p:nvGraphicFramePr>
          <p:xfrm>
            <a:off x="3733920" y="1523880"/>
            <a:ext cx="3962160" cy="406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1523880"/>
                      <a:ext cx="3962160" cy="40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4343400" y="5791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rite “1” Op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2057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257800" y="18288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81680" y="2133720"/>
              <a:ext cx="1600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=0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L=1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920" y="41911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5791320" y="3428640"/>
              <a:ext cx="1522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762120" y="2412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-Cel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se Amplifi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838080"/>
          <a:ext cx="83818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3818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28600" y="6019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: S. Natarajan et.al “ Searching for the Dream Embedded Memory”, ISSC Magazine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380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Dri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990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“1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 =0 SL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“0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=1 SL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514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T-RAM array auto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200400"/>
            <a:ext cx="8610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satya’s skill script to use leaf cells designed for STT-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scripts for array, write driver and sense-amp. gen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script to generate the complete schema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 x 8 Memory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1676520"/>
            <a:ext cx="6058080" cy="3390840"/>
            <a:chOff x="914400" y="1676520"/>
            <a:chExt cx="6058080" cy="3390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914400" y="1676520"/>
              <a:ext cx="605808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847880" y="4006800"/>
              <a:ext cx="15555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iming B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78400" y="2017800"/>
              <a:ext cx="13237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8x8 Arr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56000" y="3005280"/>
              <a:ext cx="12304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rite Dri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09920" y="4005360"/>
              <a:ext cx="179712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ense Amplif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990720" y="990720"/>
            <a:ext cx="6933960" cy="4724280"/>
            <a:chOff x="990720" y="990720"/>
            <a:chExt cx="6933960" cy="4724280"/>
          </a:xfrm>
        </p:grpSpPr>
        <p:graphicFrame>
          <p:nvGraphicFramePr>
            <p:cNvPr id="106" name=""/>
            <p:cNvGraphicFramePr/>
            <p:nvPr/>
          </p:nvGraphicFramePr>
          <p:xfrm>
            <a:off x="990720" y="990720"/>
            <a:ext cx="6858000" cy="472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990720"/>
                      <a:ext cx="6858000" cy="47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16002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28954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&lt;0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10280" y="289548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&lt;0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981080" y="274320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040" y="3200400"/>
              <a:ext cx="2286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934320" y="320040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62240" y="15876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“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48120" y="15238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“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15238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“0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81680" y="15238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“0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09480" y="15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x8 Memory Array: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0:48:27Z</dcterms:created>
  <dc:creator>anuragn</dc:creator>
  <dc:description/>
  <dc:language>en-US</dc:language>
  <cp:lastModifiedBy>anurag</cp:lastModifiedBy>
  <dcterms:modified xsi:type="dcterms:W3CDTF">2010-04-23T18:10:18Z</dcterms:modified>
  <cp:revision>23</cp:revision>
  <dc:subject/>
  <dc:title>Design and Automation Tool for STT-RAM</dc:title>
</cp:coreProperties>
</file>